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2E3-E4D5-4D20-8806-79F1ABEA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333C-63DB-4EE3-B490-1CDA6D94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EA6-7F97-4D6B-A268-B9AB2934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38CA-54F7-4B59-B164-E758FA38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6C8F-F693-4D7E-A39C-8A8E5F64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E3C7-2B7F-46CB-B980-5DD1A4B8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1879-72C5-4F8F-97CF-9C169BC2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708C-958F-4F83-9CC3-1FB92D31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D2A9-5698-4074-8DA5-420BC41E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7FB2-DC91-4DEC-BB77-6F1B79A5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A077-F004-418C-91D0-EC5CA59C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5D5E-2887-4257-9B10-5D4E339E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9822-A981-4056-B304-AA3E5420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37A2-5221-4FFD-8043-40B3D2C4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7F3D-16E8-4DA1-B71F-30F6192A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0BAD-E921-4273-8F10-5C7966CD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8993-3965-4F68-B7FF-4CEE4B80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FA31-AD0F-4E78-B75B-EA0763C4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E4DD-71DB-4EC1-9BA5-363FD290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7CAF-7ED0-4184-96FB-B19DCB2B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2E3-9F80-4804-A595-1321FF96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27F-0961-403C-9FA5-04AEC287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67DD-10E6-4508-9874-2815F60F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49A7-3A44-4ECC-A6A7-8035F513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64D2-7054-4C31-9592-232A3402D82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BF2A-3B27-43F0-9AD0-BB962F67370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523520"/>
            <a:ext cx="77724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Go Tell The Good News”</a:t>
            </a:r>
            <a:br>
              <a:rPr sz="4000"/>
            </a:b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Part 2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Quarter 12, Lesson 21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ummary of 2 Timothy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ages 249-253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0661-9232-46E7-9731-694E96D7889D}" type="slidenum">
              <a:t>1</a:t>
            </a:fld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Friends and Supporters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2 Timothy 4:9-18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imothy, please come soon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Bring Mark, my cloak and my book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emas, Crescens, Titus and Tychicus have lef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Only Luke is still with m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eware of Alexander the coppersmith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No one helped at my defense, but the Lord – to Him be the glory forever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D6A-13FF-4E3C-8E53-3BE7838B63B0}" type="slidenum">
              <a:t>10</a:t>
            </a:fld>
          </a:p>
        </p:txBody>
      </p:sp>
    </p:spTree>
  </p:cSld>
  <p:transition>
    <p:wipe dir="l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Greetings and Benediction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2 Timothy 4:19-22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Greet Aquila, Priscilla and Onesiphoru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ake every effort to come before winter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DAC8-2F2E-433A-B39B-3A4A40801441}" type="slidenum">
              <a:t>11</a:t>
            </a:fld>
          </a:p>
        </p:txBody>
      </p:sp>
    </p:spTree>
  </p:cSld>
  <p:transition>
    <p:wipe dir="l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Paul’s Work Is Done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He had done his job of preaching and offering salvation to the Gentile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“fruits of his labor” are still working today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irteen of his letters are included in the Bibl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venteen chapters in Acts cover his activitie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He was ready to be “offered”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9805-0779-4C70-8C55-2B4899F839FE}" type="slidenum">
              <a:t>12</a:t>
            </a:fld>
          </a:p>
        </p:txBody>
      </p:sp>
    </p:spTree>
  </p:cSld>
  <p:transition>
    <p:wipe dir="l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Death of Paul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aul was put to death by Ner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time was about A.D. 65 or 66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He had confidence that a crown of righteousness was laid up for him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nd to all those who look for Christ’s coming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B171-DAAD-4F64-BECF-454F3D8F20D1}" type="slidenum">
              <a:t>13</a:t>
            </a:fld>
          </a:p>
        </p:txBody>
      </p:sp>
    </p:spTree>
  </p:cSld>
  <p:transition>
    <p:wipe dir="l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Paul’s Last Letter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2 Timothy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Nero was the Roman emperor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bout A.D. 64 or 65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aul was in a “real” prison in Rom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hained, suffering and lonesom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Only Luke was with him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Those in Asia had turned from him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Ashamed of him being in prison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is work and his life was near the end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imothy needed to carry on the work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E83-90B0-41C2-9C4A-BAEB885ACE0F}" type="slidenum">
              <a:t>2</a:t>
            </a:fld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Paul’s Concern For Timothy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2 Timothy 1:3-10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He was longing to see his “dearly beloved son”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imothy had a genuine faith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Holy Spirit had been imparted to him by the laying on of Paul’s hand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aul was suffering for preaching but he was not ashamed of the gosp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Now Timothy would have to do the sam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7E9-2E25-4A04-A5C6-59CBB588195D}" type="slidenum">
              <a:t>3</a:t>
            </a:fld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Paul’s Encouragement To Timothy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2 Timothy 1:11-18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52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aul knew the Lord had guarded that which had been committed to him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imothy needed encouragement to –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Retain the standard of sound word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Guard the treasure now in your charg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Onesiphorus had been a true friend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e was not ashamed of Paul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e eagerly sought out Paul in Rom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aul prayed that the Lord grant him merc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187D-C598-4BC0-9EA3-5DC77D805AE5}" type="slidenum">
              <a:t>4</a:t>
            </a:fld>
          </a:p>
        </p:txBody>
      </p:sp>
    </p:spTree>
  </p:cSld>
  <p:transition>
    <p:wipe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Paul’s Advice To Timothy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2 Timothy 2:1-13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e strong in the grac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reach to those who can teach other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ndure hardships as a good soldier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o not become entangled in the affairs of this lif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No one wins a game unless they follow the rule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I endured all things for the sake of the chosen ones – you can to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C523-330C-49A0-A583-3C0A77F4485E}" type="slidenum">
              <a:t>5</a:t>
            </a:fld>
          </a:p>
        </p:txBody>
      </p:sp>
    </p:spTree>
  </p:cSld>
  <p:transition>
    <p:wipe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Be A Diligent Workman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2 Timothy</a:t>
            </a: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 2:14-26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o not strive over words of no valu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tudy and rightly divide the word of truth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void worldly and empty chatter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lee from youthful lust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Follow righteousnes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void foolish and ignorant question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o not be quarrelsome/controversia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n meekness, correct those who oppose the truth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6B0D-786B-43C5-ADFB-C2D76C390A48}" type="slidenum">
              <a:t>6</a:t>
            </a:fld>
          </a:p>
        </p:txBody>
      </p:sp>
    </p:spTree>
  </p:cSld>
  <p:transition>
    <p:wipe dir="l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Perilous Times Are Coming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2 Timothy 3:1-9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void wicked men and troublemaker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eware of false teacher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y will lead people awa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y will feed on their sins and their lust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se people will never come to a knowledge of the truth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se frauds will be brought down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vil men and imposters will wax (grow, increase) worse and worse (v.13)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0C2-EC34-4FCD-86B4-444826AD3CB7}" type="slidenum">
              <a:t>7</a:t>
            </a:fld>
          </a:p>
        </p:txBody>
      </p:sp>
    </p:spTree>
  </p:cSld>
  <p:transition>
    <p:wipe dir="l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Ways To Combat These Evil Men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2 Timothy 3:10-17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godly will suffer persecution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But God will deliver them from persecution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aul used his own exampl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imothy was reminded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o continue in the things he learned from his youth that made him wis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ll scripture is inspired by God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The man of God can be complete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And, be equipped for every good work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29B1-3A76-4333-9B55-21CC6FB38FF1}" type="slidenum">
              <a:t>8</a:t>
            </a:fld>
          </a:p>
        </p:txBody>
      </p:sp>
    </p:spTree>
  </p:cSld>
  <p:transition>
    <p:wipe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Paul’s Final Charge To Timothy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2 Timothy 4:1-8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God will judge the living and the dead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e ready always to preach the word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eople will not want to hear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y will desire to hear teachers who will please them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Regardless of the opposition, remain firm and do the work of an evangelis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C515-BF0E-47B6-BA55-00D156634372}" type="slidenum">
              <a:t>9</a:t>
            </a:fld>
          </a:p>
        </p:txBody>
      </p:sp>
    </p:spTree>
  </p:cSld>
  <p:transition>
    <p:wipe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8:07:05Z</dcterms:created>
  <dc:creator>Don Vines</dc:creator>
  <dc:description/>
  <dc:language>en-US</dc:language>
  <cp:lastModifiedBy>Frank D Vines</cp:lastModifiedBy>
  <dcterms:modified xsi:type="dcterms:W3CDTF">2007-05-21T16:22:21Z</dcterms:modified>
  <cp:revision>36</cp:revision>
  <dc:subject/>
  <dc:title>Q12L21</dc:title>
</cp:coreProperties>
</file>